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600" y="685440"/>
            <a:ext cx="44388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565B-56C2-4BDF-9EB1-58069E67A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7F81-3451-4D45-BD85-741CCF7B5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B00-6198-4D16-9BBA-FACC73D5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2C2D-E790-4CAE-A5C0-FBFA6332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CFBA-FFDF-41A5-930E-E229665D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BAD-9C88-4ACA-84A2-E64E9FE6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5A1-DDCC-4068-9476-1C185C4F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B5A-C522-4716-83E4-CDDA5384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956-4098-4576-96DB-6D8FE25D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97B-AA3B-4B92-8D5F-E1DE9999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E38-B949-47CD-A48A-7C145E7E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7B6-B7E5-421D-9156-D4DC80ED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8BF-D00D-43D4-91A9-4423E918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47D-A63E-46B2-A009-65151647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9BCD-09B6-44EF-9B8E-A9144BDBCCB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228600" y="228600"/>
            <a:ext cx="3235320" cy="3238560"/>
            <a:chOff x="228600" y="228600"/>
            <a:chExt cx="3235320" cy="3238560"/>
          </a:xfrm>
        </p:grpSpPr>
        <p:sp>
          <p:nvSpPr>
            <p:cNvPr id="49" name="Text Box 5"/>
            <p:cNvSpPr/>
            <p:nvPr/>
          </p:nvSpPr>
          <p:spPr>
            <a:xfrm>
              <a:off x="1673280" y="228600"/>
              <a:ext cx="908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6"/>
            <p:cNvSpPr/>
            <p:nvPr/>
          </p:nvSpPr>
          <p:spPr>
            <a:xfrm>
              <a:off x="1870200" y="228600"/>
              <a:ext cx="0" cy="323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7"/>
            <p:cNvSpPr/>
            <p:nvPr/>
          </p:nvSpPr>
          <p:spPr>
            <a:xfrm>
              <a:off x="228600" y="1846440"/>
              <a:ext cx="323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228600" y="228600"/>
              <a:ext cx="3235320" cy="323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228600" y="228600"/>
              <a:ext cx="3235320" cy="80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228600" y="2656080"/>
              <a:ext cx="3235320" cy="80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>
              <a:off x="228600" y="2254320"/>
              <a:ext cx="3235320" cy="40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2"/>
            <p:cNvSpPr/>
            <p:nvPr/>
          </p:nvSpPr>
          <p:spPr>
            <a:xfrm>
              <a:off x="228600" y="1033560"/>
              <a:ext cx="3235320" cy="40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3"/>
            <p:cNvSpPr/>
            <p:nvPr/>
          </p:nvSpPr>
          <p:spPr>
            <a:xfrm>
              <a:off x="228600" y="228600"/>
              <a:ext cx="3235320" cy="40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14"/>
            <p:cNvGrpSpPr/>
            <p:nvPr/>
          </p:nvGrpSpPr>
          <p:grpSpPr>
            <a:xfrm>
              <a:off x="228600" y="428760"/>
              <a:ext cx="3235320" cy="3031920"/>
              <a:chOff x="228600" y="428760"/>
              <a:chExt cx="3235320" cy="3031920"/>
            </a:xfrm>
          </p:grpSpPr>
          <p:sp>
            <p:nvSpPr>
              <p:cNvPr id="59" name="Rectangle 15"/>
              <p:cNvSpPr/>
              <p:nvPr/>
            </p:nvSpPr>
            <p:spPr>
              <a:xfrm>
                <a:off x="228600" y="3059280"/>
                <a:ext cx="3235320" cy="40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6"/>
              <p:cNvSpPr/>
              <p:nvPr/>
            </p:nvSpPr>
            <p:spPr>
              <a:xfrm>
                <a:off x="228600" y="14353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7"/>
              <p:cNvSpPr/>
              <p:nvPr/>
            </p:nvSpPr>
            <p:spPr>
              <a:xfrm>
                <a:off x="228600" y="12337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8"/>
              <p:cNvSpPr/>
              <p:nvPr/>
            </p:nvSpPr>
            <p:spPr>
              <a:xfrm>
                <a:off x="228600" y="20527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9"/>
              <p:cNvSpPr/>
              <p:nvPr/>
            </p:nvSpPr>
            <p:spPr>
              <a:xfrm>
                <a:off x="228600" y="265140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20"/>
              <p:cNvSpPr/>
              <p:nvPr/>
            </p:nvSpPr>
            <p:spPr>
              <a:xfrm>
                <a:off x="228600" y="22543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21"/>
              <p:cNvSpPr/>
              <p:nvPr/>
            </p:nvSpPr>
            <p:spPr>
              <a:xfrm>
                <a:off x="228600" y="325908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2"/>
              <p:cNvSpPr/>
              <p:nvPr/>
            </p:nvSpPr>
            <p:spPr>
              <a:xfrm>
                <a:off x="228600" y="83196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23"/>
              <p:cNvSpPr/>
              <p:nvPr/>
            </p:nvSpPr>
            <p:spPr>
              <a:xfrm>
                <a:off x="228600" y="42876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24"/>
            <p:cNvGrpSpPr/>
            <p:nvPr/>
          </p:nvGrpSpPr>
          <p:grpSpPr>
            <a:xfrm>
              <a:off x="235080" y="231840"/>
              <a:ext cx="3031920" cy="3235320"/>
              <a:chOff x="235080" y="231840"/>
              <a:chExt cx="3031920" cy="3235320"/>
            </a:xfrm>
          </p:grpSpPr>
          <p:sp>
            <p:nvSpPr>
              <p:cNvPr id="69" name="Rectangle 25"/>
              <p:cNvSpPr/>
              <p:nvPr/>
            </p:nvSpPr>
            <p:spPr>
              <a:xfrm rot="5400000">
                <a:off x="-1181880" y="1648800"/>
                <a:ext cx="3235320" cy="40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26"/>
              <p:cNvSpPr/>
              <p:nvPr/>
            </p:nvSpPr>
            <p:spPr>
              <a:xfrm rot="5400000">
                <a:off x="541800" y="17485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27"/>
              <p:cNvSpPr/>
              <p:nvPr/>
            </p:nvSpPr>
            <p:spPr>
              <a:xfrm rot="5400000">
                <a:off x="743400" y="17485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28"/>
              <p:cNvSpPr/>
              <p:nvPr/>
            </p:nvSpPr>
            <p:spPr>
              <a:xfrm rot="5400000">
                <a:off x="-75240" y="17485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29"/>
              <p:cNvSpPr/>
              <p:nvPr/>
            </p:nvSpPr>
            <p:spPr>
              <a:xfrm rot="5400000">
                <a:off x="-673920" y="17485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30"/>
              <p:cNvSpPr/>
              <p:nvPr/>
            </p:nvSpPr>
            <p:spPr>
              <a:xfrm rot="5400000">
                <a:off x="-276840" y="17485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31"/>
              <p:cNvSpPr/>
              <p:nvPr/>
            </p:nvSpPr>
            <p:spPr>
              <a:xfrm rot="5400000">
                <a:off x="-1281600" y="17485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32"/>
              <p:cNvSpPr/>
              <p:nvPr/>
            </p:nvSpPr>
            <p:spPr>
              <a:xfrm rot="5400000">
                <a:off x="1145160" y="17485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33"/>
              <p:cNvSpPr/>
              <p:nvPr/>
            </p:nvSpPr>
            <p:spPr>
              <a:xfrm rot="5400000">
                <a:off x="1548360" y="17485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" name="Text Box 34"/>
          <p:cNvSpPr/>
          <p:nvPr/>
        </p:nvSpPr>
        <p:spPr>
          <a:xfrm>
            <a:off x="152280" y="3505320"/>
            <a:ext cx="51055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 I: Finding the Midpoint of a Segment in the Coordinate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and label Point S(8,5), Point T(4,3) and Point R(8,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egments TS, TR and S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and find the coordinates of the midpoint U of Segment TR and of the midpoint V of Segment S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(    ,     ), V(    ,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vertical segment from U that ends when it intersects Segment TS.  Label the point of intersection 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horizontal segment from V that ends when it intersects Segment 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otice about the point where the horizontal segment intersects Segment 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conjecture about point M on the Segment 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distance formula to verify your conj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4648320" y="152280"/>
            <a:ext cx="541008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 II: Deriving the Midpoint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nsider any two points S(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and T(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coordinates for Point R(           ,          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rite the coordinates for Point U(              ,       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int V(          ,         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write the coordinates of Point M(                       ,                     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nown as the midpoint formula.  Verify that the formula works by using it to find the midpoint of Segment ST in Part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21:33:52Z</dcterms:created>
  <dc:creator> </dc:creator>
  <dc:description/>
  <dc:language>en-US</dc:language>
  <cp:lastModifiedBy>Administratr</cp:lastModifiedBy>
  <dcterms:modified xsi:type="dcterms:W3CDTF">2010-08-06T00:56:28Z</dcterms:modified>
  <cp:revision>5</cp:revision>
  <dc:subject/>
  <dc:title>Slide 1</dc:title>
</cp:coreProperties>
</file>